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F49-8A13-4790-90A8-5F9A05DD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C8D-0D2B-498F-A10D-771475EA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34E-F742-412E-B12E-6AC1EF8B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117-3E86-451C-8E5C-567B3061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CDA-DEA8-428F-AEBF-B6767155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0273-571E-442F-8767-E375C93B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195-C538-400B-BAAA-635FA476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030-7667-4C9B-A9EB-1F9194BD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3CD-93E3-4520-B8B9-6B86EB65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789-58A9-4934-AD1E-77EB44B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38D-A672-424A-A0F9-ABD0D30F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6A9-DA3C-4391-9665-6908FFB4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FEA9-E042-4E88-BDB3-406132EE4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03640" y="3141720"/>
            <a:ext cx="279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riginal Fla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280" y="6237360"/>
            <a:ext cx="3816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y David Shortis 9P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00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old Thomas designed the Aboriginal Flag in 19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old Thomas was also an artist and an Aborig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11280" y="260280"/>
            <a:ext cx="7562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o Made The Aboriginal Flag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Black represents the Aboriginal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Yellow is the sun, the giver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Red is the Earth and their spiritual relationship to the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360" y="333360"/>
            <a:ext cx="7572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at Does The Colours Mean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e late 1960s, Aborigines were protesting for land r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tests increased in the early 1970s, Harold Thomas noticed they were often outnumbered by non-Aborigines with their own banners and plac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 decided they needed to be more visible and the idea of the flag was bor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4360" y="549360"/>
            <a:ext cx="76197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Times New Roman"/>
              </a:rPr>
              <a:t>Why did Harold Thomas Design the Flag?</a:t>
            </a:r>
            <a:endParaRPr b="0" lang="en-US" sz="1800" spc="1" strike="noStrike">
              <a:ln cap="rnd" w="1908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5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riginal flag was first raised in Victoria Square in Adelaide on National Aboriginal Day in 197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it was adopted nationally by the Aborigines and Torres Strait islanders in 197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260280"/>
            <a:ext cx="74167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n was it first raised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494136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thy Free man winning gold one year and holding both flag the Australian and Aboriginal fla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7898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-872640" y="2248560"/>
            <a:ext cx="4335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ath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5759640" y="2169360"/>
            <a:ext cx="4608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reema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42:13Z</dcterms:created>
  <dc:creator>Reservoir District Secondary College</dc:creator>
  <dc:description/>
  <dc:language>en-US</dc:language>
  <cp:lastModifiedBy>DE&amp;T User</cp:lastModifiedBy>
  <dcterms:modified xsi:type="dcterms:W3CDTF">2008-06-06T01:29:48Z</dcterms:modified>
  <cp:revision>4</cp:revision>
  <dc:subject/>
  <dc:title>Slide 1</dc:title>
</cp:coreProperties>
</file>